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9C1-2EEC-4D3B-8132-16A4903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BDF-2DAB-4F45-AD6D-106E1EC6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FFC-8B57-4028-BB97-C76E71BF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03C-9538-4C5E-B619-A468CEF0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9D5A-7411-438E-A674-A3C4FAF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8C84-9989-4BCB-B0DB-AC6E0948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D809-EB00-4CD2-8620-5A99B44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9CA-DFB4-43ED-9149-3F9B7A76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F46B-7B59-4F28-BFD8-5EA8ABA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1D4F-EF83-4820-BB6A-7EE0750F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6EC5-76D8-4975-9C05-907A5CAE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E97-8159-4515-A8FD-B1FADFE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F53-8B16-410C-BC4A-0241F17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7845-E17D-4E6A-AFE7-5B3F668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5FBB-CB80-4FC2-A655-B0AE2618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296-430F-4A5E-80A0-FAFF3E2A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A44D-D59A-41BE-A79B-B44AA87C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809E-A063-42DA-8B4F-3C40D660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2DEB-A2EB-49B3-AFCE-CD0CFDF3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BC27-0012-4278-880A-DF17381E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A50E-1620-4390-A08D-F7A83BD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A24A-2E3B-45ED-AC4B-96FF839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EDA-96FF-4663-9BE8-64548F43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6954-35D7-446C-9FB3-A7ABB0D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A8DC-7726-44E7-9852-D7C8027C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BFDD-5AED-4995-BDA3-7C2758E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D259D-3307-4DA1-9B99-8B4170F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0AD8F-5787-4113-A87C-2EBF986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7550-0382-4192-B1EC-6797403B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B95A-7565-468B-BB2F-DB5B69BB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CA3E-A0D8-42A2-BE84-D24F8659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8947-4025-4240-A4F5-47207D3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E0A7-AF76-4446-BA10-4846053C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3A9-5519-4A96-AA38-F25A87B1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708A-0DD9-4E60-A5A2-E4332A6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6914-A357-4A2A-B23D-D8804AD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A8F5-34FD-4D43-A808-B8B0A1E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5699-BE5B-45A7-8937-0F8AC52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024AA-8C26-404D-A6BC-41273574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4709-4736-44B1-AD5F-E924888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5DBC-B315-46E2-84DB-CA1A0610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D9BC-C844-4C62-BF8D-78B48429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C442-C13E-4502-A069-642857A0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E69-6F17-4966-8978-7641EA2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973-C726-4E00-8AF6-39940A7C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3CF-073E-4661-B4F4-0C9672E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4FB-9164-4C68-8088-2EE56B6A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87A-E07B-4CBF-A483-8D731F7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339F-6E05-4977-9675-A02B6A04311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F7C6-FD59-45BC-A46E-979CA21B687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503-E279-4CE3-A668-57ABC488A17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755F-FB74-44FF-87E8-9138D8F4B5E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CuadroTexto" descr=""/>
          <p:cNvPicPr/>
          <p:nvPr/>
        </p:nvPicPr>
        <p:blipFill>
          <a:blip r:embed="rId2"/>
          <a:stretch/>
        </p:blipFill>
        <p:spPr>
          <a:xfrm>
            <a:off x="1468440" y="2103480"/>
            <a:ext cx="6559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55640" y="887400"/>
            <a:ext cx="6197760" cy="4127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322000" y="5337000"/>
            <a:ext cx="10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1 Título" descr=""/>
          <p:cNvPicPr/>
          <p:nvPr/>
        </p:nvPicPr>
        <p:blipFill>
          <a:blip r:embed="rId2"/>
          <a:stretch/>
        </p:blipFill>
        <p:spPr>
          <a:xfrm>
            <a:off x="450720" y="1352520"/>
            <a:ext cx="8321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4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47640" y="1376280"/>
            <a:ext cx="576108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5661000"/>
            <a:ext cx="200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mice"/>
          <p:cNvPicPr/>
          <p:nvPr/>
        </p:nvPicPr>
        <p:blipFill>
          <a:blip r:embed="rId2"/>
          <a:stretch/>
        </p:blipFill>
        <p:spPr>
          <a:xfrm>
            <a:off x="-52848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4 CuadroTexto"/>
          <p:cNvSpPr/>
          <p:nvPr/>
        </p:nvSpPr>
        <p:spPr>
          <a:xfrm>
            <a:off x="0" y="0"/>
            <a:ext cx="107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MOUSE /M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32000" y="884160"/>
            <a:ext cx="7056360" cy="47055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782160" y="5661000"/>
            <a:ext cx="19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green%20frog%20raulston%20arboretum%2072304"/>
          <p:cNvPicPr/>
          <p:nvPr/>
        </p:nvPicPr>
        <p:blipFill>
          <a:blip r:embed="rId2"/>
          <a:stretch/>
        </p:blipFill>
        <p:spPr>
          <a:xfrm>
            <a:off x="-600120" y="-324000"/>
            <a:ext cx="10344240" cy="7506000"/>
          </a:xfrm>
          <a:prstGeom prst="rect">
            <a:avLst/>
          </a:prstGeom>
          <a:ln w="0">
            <a:noFill/>
          </a:ln>
        </p:spPr>
      </p:pic>
      <p:sp>
        <p:nvSpPr>
          <p:cNvPr id="203" name="4 CuadroTexto"/>
          <p:cNvSpPr/>
          <p:nvPr/>
        </p:nvSpPr>
        <p:spPr>
          <a:xfrm>
            <a:off x="357120" y="5715000"/>
            <a:ext cx="38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super_squirrel.jpg Super Squirrel image by squirrelmaster88"/>
          <p:cNvPicPr/>
          <p:nvPr/>
        </p:nvPicPr>
        <p:blipFill>
          <a:blip r:embed="rId2"/>
          <a:stretch/>
        </p:blipFill>
        <p:spPr>
          <a:xfrm>
            <a:off x="480960" y="0"/>
            <a:ext cx="5753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372360" y="4618080"/>
            <a:ext cx="27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Squirr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42920" y="307800"/>
            <a:ext cx="6481800" cy="573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926880" y="6021360"/>
            <a:ext cx="209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36600" y="981000"/>
            <a:ext cx="4727880" cy="475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61440" y="580536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S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92360" y="1012680"/>
            <a:ext cx="5070240" cy="425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35080" y="54817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25:41Z</dcterms:created>
  <dc:creator>Bj</dc:creator>
  <dc:description/>
  <dc:language>en-US</dc:language>
  <cp:lastModifiedBy>I.E.S. FEDERICO GARCIA LORCA</cp:lastModifiedBy>
  <dcterms:modified xsi:type="dcterms:W3CDTF">2009-03-30T10:54:51Z</dcterms:modified>
  <cp:revision>21</cp:revision>
  <dc:subject/>
  <dc:title>Diapositiva 1</dc:title>
</cp:coreProperties>
</file>